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wmf" ContentType="image/x-wmf"/>
  <Override PartName="/ppt/media/image5.png" ContentType="image/png"/>
  <Override PartName="/ppt/media/image6.gif" ContentType="image/gi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503-D8C5-42A0-A62F-590C0AB0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584-7246-4C8E-AC07-4D687C28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BCC-97A0-40B5-B558-BA1A0DFF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812-0A57-4753-87FD-839B0FD1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2E42-08B3-4B2F-A9B3-E9FDE870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8044-A31A-4511-B50C-986FF5E6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6E50-98C1-4EA2-948E-D519215C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216C-26B9-49E8-9905-FA3E3F8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214F-4355-48B6-BB2B-547317C0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2F2B-BE1A-4B99-94F3-DBB8EF4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7BCB-D023-4C1E-BA17-960D1F5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D67-A7A6-4BB2-87A1-F28F32D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A00F-D686-41E1-BCAA-A1364B7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ACB0-1DD8-4B51-8625-86E4B1C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0CF4-702F-4785-A838-20D31B8D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A645-6E0D-403E-A615-BF399B57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EA3F-A1F7-47A3-9F2D-030CCE16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2EE-6AD5-4819-B683-5CB1D8C8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E34-F0B8-48D6-91BB-B04EEA52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1DC-2DCD-41DF-9D00-812D2EBB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C9A-24F7-464C-8CDE-76D936B1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CA1-FCAA-4141-AB95-E01B10A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79A-6827-4875-88CC-E4F6C9AF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CDC-AE93-41E3-BF25-671E3ECE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726E-C043-4006-8D28-BCA4BB6EAB6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99CF-C35B-47AE-8951-A1F4CA9F96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Heavy"/>
              </a:rPr>
              <a:t>Riscos / Catástrofes Naturai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564" t="2305" r="564" b="1152"/>
          <a:stretch/>
        </p:blipFill>
        <p:spPr>
          <a:xfrm>
            <a:off x="539640" y="1916280"/>
            <a:ext cx="8131320" cy="39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Heavy"/>
              </a:rPr>
              <a:t>Riscos = Catástrofes Natura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cc51"/>
                </a:solidFill>
                <a:latin typeface="Brush Script MT"/>
              </a:rPr>
              <a:t>Risco Natural</a:t>
            </a:r>
            <a:r>
              <a:rPr b="0" lang="en-US" sz="3600" spc="-1" strike="noStrike">
                <a:solidFill>
                  <a:srgbClr val="5e855b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Todo o perigo que pode ameaçar o Hom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Resultante de um fenómeno natural como sej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Sism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Furacã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Avalanch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Inundaçã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Também existem fenómenos artificiais como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poluiçã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incêndi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8456"/>
                </a:solidFill>
                <a:latin typeface="Agency FB"/>
              </a:rPr>
              <a:t>Catástrof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8456"/>
                </a:solidFill>
                <a:latin typeface="Agency FB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acontecimento súbito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sempre imprevisí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de origem natural ou artif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provoca vitimas e danos materiai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afecta gravemente a segurança das pessoas, as condições de vida das populaçõe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tem consequências socio-económicas para o paí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201636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eaeaea"/>
                </a:solidFill>
                <a:latin typeface="Tempus Sans ITC"/>
              </a:rPr>
              <a:t>	</a:t>
            </a:r>
            <a:r>
              <a:rPr b="1" lang="pt-PT" sz="2400" spc="-1" strike="noStrike">
                <a:solidFill>
                  <a:srgbClr val="eaeaea"/>
                </a:solidFill>
                <a:latin typeface="Tempus Sans ITC"/>
              </a:rPr>
              <a:t>Estes fenómenos têm diferentes causas naturais, que podem estar associadas</a:t>
            </a:r>
            <a:r>
              <a:rPr b="0" lang="pt-PT" sz="2400" spc="-1" strike="noStrike">
                <a:solidFill>
                  <a:srgbClr val="eaeaea"/>
                </a:solidFill>
                <a:latin typeface="Tempus Sans ITC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aos fenómenos atmosféricos – tempestades, furacões, tornados, vagas de calor e fri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á agua – inundações, sec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aos oceanos – tsunami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aos movimentos internos da Terra – sismos, vulcõ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aos declives – deslizamentos de terra, avalanch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Pode ainda haver uma combinação entre os riscos naturais e a acção humana – ex: ruptura de uma barragem, levando a uma inundaçã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519280" cy="162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4581360"/>
            <a:ext cx="202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287964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da24"/>
                </a:solidFill>
                <a:latin typeface="Kristen ITC"/>
              </a:rPr>
              <a:t>Riscos</a:t>
            </a: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 e </a:t>
            </a:r>
            <a:r>
              <a:rPr b="0" lang="en-US" sz="3600" spc="-1" strike="noStrike">
                <a:solidFill>
                  <a:srgbClr val="eec85e"/>
                </a:solidFill>
                <a:latin typeface="Kristen ITC"/>
              </a:rPr>
              <a:t>Catástrofes</a:t>
            </a: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 </a:t>
            </a:r>
            <a:r>
              <a:rPr b="0" lang="en-US" sz="3600" spc="-1" strike="noStrike">
                <a:solidFill>
                  <a:srgbClr val="a8d270"/>
                </a:solidFill>
                <a:latin typeface="Kristen ITC"/>
              </a:rPr>
              <a:t>Naturais</a:t>
            </a: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 - Mundo</a:t>
            </a: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58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1.Riscos Natura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49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Quando ocorrem em áreas desabitadas não é considerada uma catástrofe </a:t>
            </a:r>
            <a:r>
              <a:rPr b="0" lang="en-US" sz="1400" spc="-1" strike="noStrike">
                <a:solidFill>
                  <a:srgbClr val="eaeaea"/>
                </a:solidFill>
                <a:latin typeface="Comic Sans MS"/>
              </a:rPr>
              <a:t>(não ameaçou ninguém nem casou estragos</a:t>
            </a: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5000"/>
              </a:lnSpc>
              <a:spcBef>
                <a:spcPts val="176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Riscos naturais são diverso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Sism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Vulcõ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uracõ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nundaçõ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Vagas de calor e Fri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valanch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Tsunami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Sec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eslizamentos de terr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160360" cy="155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20655600">
            <a:off x="1908000" y="2491920"/>
            <a:ext cx="1944720" cy="1851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124000" y="1773360"/>
            <a:ext cx="2160720" cy="1550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84360" y="3573360"/>
            <a:ext cx="158904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546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1.1 Sis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11640" y="2997360"/>
            <a:ext cx="4681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ebbe41"/>
                </a:solidFill>
                <a:latin typeface="Comic Sans MS"/>
              </a:rPr>
              <a:t>Caus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75000"/>
              </a:lnSpc>
              <a:spcAft>
                <a:spcPts val="524"/>
              </a:spcAft>
              <a:buClr>
                <a:srgbClr val="eec85e"/>
              </a:buClr>
              <a:buSzPct val="7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aiandra GD"/>
              </a:rPr>
              <a:t>São provocados pelo movimentos das placas litosféricas (tectónicas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75000"/>
              </a:lnSpc>
              <a:spcAft>
                <a:spcPts val="524"/>
              </a:spcAft>
              <a:buClr>
                <a:srgbClr val="eec85e"/>
              </a:buClr>
              <a:buSzPct val="7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aiandra GD"/>
              </a:rPr>
              <a:t>É nas zonas de contacto das placas que ocorrem os sismos e as erupções vulcânicas (alguns dos maiores ocorrem nas áreas de convergência, onde uma das placas é obrigada a mergulhar sob a outra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75000"/>
              </a:lnSpc>
              <a:spcAft>
                <a:spcPts val="524"/>
              </a:spcAft>
              <a:buClr>
                <a:srgbClr val="eec85e"/>
              </a:buClr>
              <a:buSzPct val="7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aiandra GD"/>
              </a:rPr>
              <a:t>Quando as placas colidem de frente ou deslizam, uma em relação à outra, verifica-se uma deformação e a fractura das rochas da crosta, seguido do deslocamento de grandes blocos rochoso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75000"/>
              </a:lnSpc>
              <a:spcAft>
                <a:spcPts val="488"/>
              </a:spcAft>
              <a:buClr>
                <a:srgbClr val="eec85e"/>
              </a:buClr>
              <a:buSzPct val="7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aiandra GD"/>
              </a:rPr>
              <a:t>Da ruptura e deslocamento dos blocos surge a libertação</a:t>
            </a:r>
            <a:r>
              <a:rPr b="0" lang="en-US" sz="1300" spc="-1" strike="noStrike">
                <a:solidFill>
                  <a:srgbClr val="eaeaea"/>
                </a:solidFill>
                <a:latin typeface="Maiandra GD"/>
              </a:rPr>
              <a:t>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just">
              <a:lnSpc>
                <a:spcPct val="75000"/>
              </a:lnSpc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270000">
            <a:off x="5076360" y="836280"/>
            <a:ext cx="3467160" cy="2060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919320" cy="1887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773360"/>
            <a:ext cx="4681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ebbe41"/>
                </a:solidFill>
                <a:latin typeface="Comic Sans MS"/>
              </a:rPr>
              <a:t>O que são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Aft>
                <a:spcPts val="675"/>
              </a:spcAft>
              <a:buClr>
                <a:srgbClr val="eec85e"/>
              </a:buClr>
              <a:buSzPct val="7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aiandra GD"/>
              </a:rPr>
              <a:t>Sismos ou tremores de terra são movimentos oscilatórios bruscos e repentinos da crosta terrestre provocados pela irradiação das ondas sísmica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0:21:28Z</dcterms:created>
  <dc:creator>Marinela Passos</dc:creator>
  <dc:description/>
  <dc:language>en-US</dc:language>
  <cp:lastModifiedBy>Marinela Passos</cp:lastModifiedBy>
  <dcterms:modified xsi:type="dcterms:W3CDTF">2007-09-25T22:16:33Z</dcterms:modified>
  <cp:revision>8</cp:revision>
  <dc:subject/>
  <dc:title>Riscos / Catástrofes Natura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